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E15-F63F-442B-AE36-4576CCA5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CDB-6878-4426-AB0B-6ED63BD6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1B4-175C-468C-8BD3-CC123130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F1D-E3C4-4763-9420-FFCEC2E1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2F51-58A5-46B2-AF03-005420F3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33E0-BAE2-4BD1-8AE2-6AB1F606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DE98-D66E-4537-80E9-F999450F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4361-4A47-46E0-89E3-2EF8500D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FAE3-83D7-4B62-A770-FFD4CE88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0789-3B14-42BC-97EE-D44F2A15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6F87-16C3-4FB3-B6F0-32703695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F1D-9DE3-4650-A079-E7625E6D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4ECF-1FBC-41BF-83FB-1F5C84FA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3637-371B-4BB7-9A6C-C1EC7C7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8E2F-B4DC-4817-AA45-2442C1CF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5045-FFE1-4C55-A7C6-F21E452F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A7CC-C07B-4AFB-85E4-75DF5B42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9E154-2359-4B48-B676-F88BB73E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EE0BD-0814-4A3A-B8D8-9952EBFC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CD6C-5B45-47F4-9AFB-82D6C50A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9613-9CAA-43D2-BE13-73AEC878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B7C5-0CF7-4B2C-8E6F-79808865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914-2805-4417-9360-97DE3C0A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2083-3B75-4813-A7FA-E5DACCC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EE67-12CD-4850-B198-6441FFC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8D55-8936-482D-BD81-5683A9FC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5592-13F2-4DAD-A765-212CDF2B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8428-7853-412A-8399-7AB02D0C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E1723-A075-444D-934E-1A7BC216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7751-4CDA-4824-81E3-922AA631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C12-797A-48B1-A6BA-AB753AA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F84-64DE-4410-A0A9-5C2E18A2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038-8F72-4EC4-A2F2-484173DA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FA5-7596-4ECB-8C26-FC10B938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5F7-88FE-45EE-B583-FF7D194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6B6-D9F4-4B88-B2AF-FB55A212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DBB0-A510-41B5-B35B-F2962D644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3635280" y="0"/>
            <a:ext cx="180036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79AF-0FA8-4F41-B74B-3DDD3FEBF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-19080" y="152280"/>
            <a:ext cx="1079640" cy="261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6E15-E3C1-4472-B83C-6C9B598BB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тест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их работни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Оптимизация правопримен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Порядка аттест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в субъектах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22.12.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вовое регулирование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удовой кодекс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едеральный закон от 29 декабря 2012 г. № 273-Ф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 (ст. 4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иказ Минобрнауки России от 7 апреля 2014 г. № 2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Об утверждении Порядка проведения аттест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ических  работников организаци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яющих образовательную деятельность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траслевые соглашения, коллективные догово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номочия Минобрнауки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Закону «Об образовании в РФ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ановление порядка прове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тестации педработников относится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номочиям Минобрнауки Росс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ок аттестации 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омственным нормативным правов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ом прямого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ъяснения Порядка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лях единообразия правоприменитель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ки были подготовлены и направлены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бъекты РФ Разъяснения Департа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политики в сфере общ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я Минобрнауки России 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российского Профсоюза образования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ению Порядка аттестации от 3 декабря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4 г. № 08-1933/5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ы, принимаемые субъектам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черпывающий перечень актов, принимаемых субъектами РФ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проведения аттестации педработников в целя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овления квалификационной категории, включает ак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формировании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составе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регламенте работы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ловиях привлечения специалистов дл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ения всестороннего анали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рофессиональной деятельности 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тановлении (или отказе в установлении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едработникам первой (высшей)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тестация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ком аттестации не предусмотрено какое-либо участие органов исполнительной власти субъектов РФ, осуществляющих государственное управление в сфере образования, в проведении аттестации педработников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я, необходимая педработн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 аттестации в целях установления квалификационной категории педработник должен зн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ядок проведения аттестации педагогическ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рганизаций, осуществляющ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разовательную деятельность (приказ Минобрнаук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оссии от 7 апреля 2014 г. № 27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чтовый и электронный адреса аттестацион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ок и место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орядительный акт об установлении (или отказ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овлении)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ументы, предъявляемые для аттестации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тестация педработников в целях установления квалификационной категории проводится на основании их зая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аявлении о проведении аттестации педработники указывают квалификационные категории и должности, по которым они желают пройти аттест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пункты 27 и 28 Порядка аттес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Работник вправе указать при подаче заявления ссылку на Интернет-ресурс, содержащий информацию о нём и результатах его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9" descr=""/>
          <p:cNvPicPr/>
          <p:nvPr/>
        </p:nvPicPr>
        <p:blipFill>
          <a:blip r:embed="rId1"/>
          <a:srcRect l="37500" t="24073" r="37085" b="12224"/>
          <a:stretch/>
        </p:blipFill>
        <p:spPr>
          <a:xfrm>
            <a:off x="5364000" y="1557360"/>
            <a:ext cx="3370320" cy="47512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sp>
        <p:nvSpPr>
          <p:cNvPr id="160" name="Прямоугольник 4"/>
          <p:cNvSpPr/>
          <p:nvPr/>
        </p:nvSpPr>
        <p:spPr>
          <a:xfrm>
            <a:off x="5364000" y="515772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Примерный образец заявления педработника о проведении аттестации в целях установления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6"/>
          <p:cNvSpPr/>
          <p:nvPr/>
        </p:nvSpPr>
        <p:spPr>
          <a:xfrm>
            <a:off x="826920" y="5084640"/>
            <a:ext cx="41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ссмотрении за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и рассмотрении заявлений о проведении аттестации 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елях установления квалификационной категор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ттестационная комиссия осуществляет самостоятельный сбор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обходимой ей информации, например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анных, подтверждающих, что лицо, подавшее заявлени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 проведении аттестации, является педработником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окумент о месте работы и должности заявител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ицензия организации, в которой работает заявитель,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уществление образовательной деятель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ведений об аттестации заявителя, если он проходил её ране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итерии установл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валификационных категорий  </a:t>
            </a:r>
            <a:br>
              <a:rPr sz="4000"/>
            </a:br>
            <a:br>
              <a:rPr sz="7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счерпывающий перечень критериев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первой и высшей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валификационных категорий содержится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пунктах 36 и 37 (с учётом пункта 38)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рядка аттестац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бъекты РФ не вправе применять пр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ттестации иные (в т. ч. дополнительны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ли детализирующие) критери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квалификационных категори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 о педработ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ттестационная комиссия осуществляет самостоя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бор информации о результатах деятельности педработн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том числе используя следующие ист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фициальные сайты организаций, осуществляющих образовательную деятельность,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чные Интернет-ресурсы педработников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тоги мониторинга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ые карты участников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ы всероссийской олимпиады шк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алобы педагогических работников и общественных организаций на нарушения Порядка аттестации в субъектах РФ, поступающие в Администрацию Президента РФ и Минобрнауки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актов органов исполнительной власти субъектов РФ, осуществляющих государственное управление в сфере образования, подтвердивший обоснованность жалоб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лиз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ециалисты, привлекаемые для анализа профессиональной деятельности педработников, должны обосновать соответствие (несоответствие) педработника заявленной категории по результатам качественного, а не количественного анализа результатов его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 анализе необходим дифференцированный подход в оценке результатов деятельности педработников с учётом специфики организаций, в которых они работают (например, «слабых» шк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ка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ценка профессиональной деятельности педработников в целях установления квалификационной категории осуществляется аттестационной комиссией на основе результатов их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ы аттестации в 2015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шая квалификационная категория установлена 6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квалификационная категория установлена 9,5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в среднем по РФ – примерно 2 : 3 (разница в 1,5 р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Ульяновской области количество педработников, которым бы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а высшей категория, в 7,5 больше, чем количе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работников, которым была установлена первая категор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Амурской области в 2,5 раза больше, в Ярославской области – в 2 раз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ый разрыв в количественном соотношении педработник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м были установлены высшая и первая категории (соответствен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: 4) зафиксирован в Курской, Свердловской и Еврейской автоном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В 2014–15 гг. в Минобрнауки России поступи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36 обращений граждан из 16 субъектов РФ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18,8%) с жалобами на различные нарушен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рядка аттестаци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облема нарушения Порядка аттестации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убъектах РФ была также обозначена в С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ядом общественных организ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Гильдия словесников, Межрегиональный профсою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бразования «УЧИТЕЛЬ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НПА субъектов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ноябре–декабре 201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Минобрнауки России поступили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распорядительные акты по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педработников из 85 субъектов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(10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в рамках анализа лучших региона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актик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и анализа региональных практик проведения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ы в большинстве субъектов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 критерии установления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и, не предусмотренные Порядком аттестац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ример, результаты тестирования, повы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алификации, собеседования и т. 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авливают перечни «отчётности» (в т. ч. документ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аваемых педработникам за косвенную плату и (ил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осредничестве третьих лиц, в том числе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одателе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юменская обла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специалистами департамента образова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юменской области (совместно с межрегиональ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ей Общероссийского Профсоюза образования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ярных выездных встреч с молодыми педагогами (в т. ч. 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ате индивидуальных консультаций), в ходе котор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ъясняются аттестационные процед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я Советом молодых педагогов Тюме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ниторинга аттестации молодых педагогов региона в рамках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ки как наименее социально защищённой категор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Удмуртская Республ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	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формирование при Министерстве      образования и науки Удмуртской Республики рабочей группы по совершенствованию системы аттестации педработников</a:t>
            </a:r>
            <a:r>
              <a:rPr b="0" i="1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 (ноябрь 2015 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ие практики в сфере упрощения аттестационных процеду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тие системы электронного документооборот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аттестации, что является особенно удобным дл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дработников, живущих за предела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ой «столи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месте с тем в субъектах РФ имеются и случа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разумного перехода на электронны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кументооборот, когда заявления о проведен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тестации не регистрируются без заполн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лектронных анкет и прикрепления к ним файлов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предусмотренных Порядком аттест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дение НПА субъектов РФ в соответствие с федеральным Порядком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еспечение независимости и объективности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взимания прямой и косвенной платы при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ощение аттестационных процедур (в т. ч. отказ от «отчётности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оответствия между реальным уровнем квалификации педработника и результатами его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34:49Z</dcterms:created>
  <dc:creator>Сергоманов Павел Аркадьевич</dc:creator>
  <dc:description/>
  <dc:language>en-US</dc:language>
  <cp:lastModifiedBy>Понкратова</cp:lastModifiedBy>
  <cp:lastPrinted>2015-12-22T07:41:24Z</cp:lastPrinted>
  <dcterms:modified xsi:type="dcterms:W3CDTF">2015-12-29T08:39:13Z</dcterms:modified>
  <cp:revision>52</cp:revision>
  <dc:subject/>
  <dc:title>Модель изменений нормативного правового регулирования стимулирования качества труда педагогов общего образования</dc:title>
</cp:coreProperties>
</file>