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9C72-60C8-4C2C-A795-E5EB93CA8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4C2F-1F48-4ADC-AC0D-8656CC8F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E1FD-F533-4092-85DF-3E4F13341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BBD5-5026-4F23-9059-2ADAFA2D7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998D-989A-491A-9993-3C486B116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5165-AD3D-4304-B3C9-4D0E490A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2DE5-2773-42A5-870B-81F1C88B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4C6C-2F93-453A-ACE6-B637E885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39F4-6C2B-4515-BF6C-22B299F5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5BCB-8A26-44AD-96E0-E519768A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25A4-5281-4947-89AC-D13DD6B8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87C8-1F0F-4CD9-AF20-15B8AB4D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E0FC-5183-4469-831D-C6F4F263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D30A-7597-4FA5-AE69-457354AB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0BB3-A790-4071-AB3B-398F179E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3158-A5D9-44C8-BE33-F8F79D63B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20CA-89CE-4959-AC9F-334983FDC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0ABD1-CE2A-42E1-A29D-4B16D7AA4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EEF50-359B-4452-98E7-2F392E6A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B4727-07EA-41EA-AA87-E5006836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6E228-664B-4EDE-B7AC-AA2C8F7E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48DAD-ABD3-435D-AE17-C24542F8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BDE2-4590-44BE-B341-9B9CEDA9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941E5-CEEC-4641-90E3-6FAE712E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C131E-C0AD-4F82-9DB3-55959F68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0E30A-0CE7-492F-B987-665C3803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E1F0C-4A03-4B9D-B1FE-1DC4BA0B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2A2C2-F71A-48AC-BE3E-BB74D4C0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A454D-E66A-4EAF-AF17-A2F619494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37725-0C8E-4CC7-A4D1-C0F7CFC0A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8228-1FAD-48F6-AE99-69602187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A379-3C61-413D-AE4D-96F27196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C5B3-0460-40B7-B533-DDA942B7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1F77-04AA-4AA5-9369-4C331B23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6E64-7EDC-46F0-9FD9-1E53D8A2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EC20-B141-4451-B5CC-7A2FA0ED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E2E3-E08C-4446-96ED-280CCCD5ED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Juliana\Desktop\логотип-01.png"/>
          <p:cNvPicPr/>
          <p:nvPr/>
        </p:nvPicPr>
        <p:blipFill>
          <a:blip r:embed="rId3"/>
          <a:stretch/>
        </p:blipFill>
        <p:spPr>
          <a:xfrm>
            <a:off x="3635280" y="0"/>
            <a:ext cx="1800360" cy="2225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C666-0569-44A4-8E7D-888F5D0ECC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Juliana\Desktop\логотип-01.png"/>
          <p:cNvPicPr/>
          <p:nvPr/>
        </p:nvPicPr>
        <p:blipFill>
          <a:blip r:embed="rId3"/>
          <a:stretch/>
        </p:blipFill>
        <p:spPr>
          <a:xfrm>
            <a:off x="-19080" y="152280"/>
            <a:ext cx="1079640" cy="2610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20A4-0121-4D74-8145-B2E28AF27D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465280"/>
            <a:ext cx="7772400" cy="25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ттестац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дагогических работников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403280" y="515736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Calibri"/>
              </a:rPr>
              <a:t>Оптимизация правопримен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Calibri"/>
              </a:rPr>
              <a:t>Порядка аттест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Calibri"/>
              </a:rPr>
              <a:t>в субъектах Российской Федер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22.12.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авовое регулирование аттест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нституция Р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рудовой кодекс Р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едеральный закон от 29 декабря 2012 г. № 273-Ф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«Об образовании в Российской Федерации» (ст. 49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приказ Минобрнауки России от 7 апреля 2014 г. № 27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«Об утверждении Порядка проведения аттестаци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педагогических  работников организаций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осуществляющих образовательную деятельность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отраслевые соглашения, коллективные договор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лномочия Минобрнауки Росс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гласно Закону «Об образовании в РФ»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становление порядка провед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ттестации педработников относится 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лномочиям Минобрнауки Росс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рядок аттестации являетс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домственным нормативным правовы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ктом прямого действ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ъяснения Порядка аттест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целях единообразия правоприменительн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ктики были подготовлены и направлены 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бъекты РФ Разъяснения Департамен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осударственной политики в сфере общег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ования Минобрнауки России 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щероссийского Профсоюза образования п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нению Порядка аттестации от 3 декабря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014 г. № 08-1933/50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кты, принимаемые субъектами Р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счерпывающий перечень актов, принимаемых субъектами РФ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ля проведения аттестации педработников в целях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становления квалификационной категории, включает акт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о формировании аттестационных комисс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о составе аттестационных комисс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о регламенте работы аттестационных комисс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об условиях привлечения специалистов для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осуществления всестороннего анализ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профессиональной деятельности педработник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об установлении (или отказе в установлении)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педработникам первой (высшей) квалификационно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категор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тестация в целях подтверждения соответствия занимаемым должност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рядком аттестации не предусмотрено какое-либо участие органов исполнительной власти субъектов РФ, осуществляющих государственное управление в сфере образования, в проведении аттестации педработников в целях подтверждения соответствия занимаемым должност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ация, необходимая педработни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ри аттестации в целях установления квалификационной категории педработник должен зна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рядок проведения аттестации педагогически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ботников организаций, осуществляющи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образовательную деятельность (приказ Минобрнауки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России от 7 апреля 2014 г. № 27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чтовый и электронный адреса аттестационн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мисс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рок и место проведения аттест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порядительный акт об установлении (или отказе 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становлении) квалификационной категор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кументы, предъявляемые для аттестации  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6840" y="1600200"/>
            <a:ext cx="4546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ттестация педработников в целях установления квалификационной категории проводится на основании их заявл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заявлении о проведении аттестации педработники указывают квалификационные категории и должности, по которым они желают пройти аттестац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пункты 27 и 28 Порядка аттестации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alibri"/>
              </a:rPr>
              <a:t>Работник вправе указать при подаче заявления ссылку на Интернет-ресурс, содержащий информацию о нём и результатах его рабо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Рисунок 9" descr=""/>
          <p:cNvPicPr/>
          <p:nvPr/>
        </p:nvPicPr>
        <p:blipFill>
          <a:blip r:embed="rId1"/>
          <a:srcRect l="37500" t="24073" r="37085" b="12224"/>
          <a:stretch/>
        </p:blipFill>
        <p:spPr>
          <a:xfrm>
            <a:off x="5364000" y="1557360"/>
            <a:ext cx="3370320" cy="4751280"/>
          </a:xfrm>
          <a:prstGeom prst="rect">
            <a:avLst/>
          </a:prstGeom>
          <a:ln w="28440">
            <a:solidFill>
              <a:srgbClr val="e46c0a"/>
            </a:solidFill>
            <a:miter/>
          </a:ln>
        </p:spPr>
      </p:pic>
      <p:sp>
        <p:nvSpPr>
          <p:cNvPr id="160" name="Прямоугольник 4"/>
          <p:cNvSpPr/>
          <p:nvPr/>
        </p:nvSpPr>
        <p:spPr>
          <a:xfrm>
            <a:off x="5364000" y="5157720"/>
            <a:ext cx="3370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"/>
              </a:rPr>
              <a:t>Примерный образец заявления педработника о проведении аттестации в целях установления квалификационной катег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6"/>
          <p:cNvSpPr/>
          <p:nvPr/>
        </p:nvSpPr>
        <p:spPr>
          <a:xfrm>
            <a:off x="826920" y="5084640"/>
            <a:ext cx="41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бор информаци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рассмотрении заявл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1599840"/>
            <a:ext cx="84358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При рассмотрении заявлений о проведении аттестации 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целях установления квалификационной категории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аттестационная комиссия осуществляет самостоятельный сбор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необходимой ей информации, например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данных, подтверждающих, что лицо, подавшее заявление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о проведении аттестации, является педработником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    –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документ о месте работы и должности заявителя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    –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лицензия организации, в которой работает заявитель,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на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осуществление образовательной деятельности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сведений об аттестации заявителя, если он проходил её ране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ритерии установлени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валификационных категорий  </a:t>
            </a:r>
            <a:br>
              <a:rPr sz="4000"/>
            </a:br>
            <a:br>
              <a:rPr sz="7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Исчерпывающий перечень критериев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установления первой и высшей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квалификационных категорий содержится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в пунктах 36 и 37 (с учётом пункта 38)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Порядка аттестации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Субъекты РФ не вправе применять при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аттестации иные (в т. ч. дополнительные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или детализирующие) критерии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установления квалификационных категорий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точники информации о педработни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Аттестационная комиссия осуществляет самостоятель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бор информации о результатах деятельности педработник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 том числе используя следующие источник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фициальные сайты организаций, осуществляющих образовательную деятельность, в сети «Интернет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личные Интернет-ресурсы педработников в сети «Интернет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итоги мониторинга системы 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информационные карты участников конкур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результаты всероссийской олимпиады школьни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нализ примен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алобы педагогических работников и общественных организаций на нарушения Порядка аттестации в субъектах РФ, поступающие в Администрацию Президента РФ и Минобрнауки Росс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ализ актов органов исполнительной власти субъектов РФ, осуществляющих государственное управление в сфере образования, подтвердивший обоснованность жалоб гражд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нализ деятельности педработн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Специалисты, привлекаемые для анализа профессиональной деятельности педработников, должны обосновать соответствие (несоответствие) педработника заявленной категории по результатам качественного, а не количественного анализа результатов его ра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При анализе необходим дифференцированный подход в оценке результатов деятельности педработников с учётом специфики организаций, в которых они работают (например, «слабых» шко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ценка деятельности педработн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ценка профессиональной деятельности педработников в целях установления квалификационной категории осуществляется аттестационной комиссией на основе результатов их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зультаты аттестации в 2015 год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сшая квалификационная категория установлена 6 % педработн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вая квалификационная категория установлена 9,5 % педработн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отношение в среднем по РФ – примерно 2 : 3 (разница в 1,5 раз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Ульяновской области количество педработников, которым был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ановлена высшей категория, в 7,5 больше, чем количеств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дработников, которым была установлена первая категори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Амурской области в 2,5 раза больше, в Ярославской области – в 2 раз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ксимальный разрыв в количественном соотношении педработников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торым были установлены высшая и первая категории (соответственн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 : 4) зафиксирован в Курской, Свердловской и Еврейской автономн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ласт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ализ примен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В 2014–15 гг. в Минобрнауки России поступил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36 обращений граждан из 16 субъектов РФ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(18,8%) с жалобами на различные нарушения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Порядка аттестаци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Проблема нарушения Порядка аттестации в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субъектах РФ была также обозначена в СМ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рядом общественных организаци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(Гильдия словесников, Межрегиональный профсоюз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работников образования «УЧИТЕЛЬ»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нализ НПА субъектов Р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В ноябре–декабре 2015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в Минобрнауки России поступили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распорядительные акты по аттест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педработников из 85 субъектов Р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(100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* в рамках анализа лучших региональ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практик проведения аттест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тоги анализа региональных практик проведения аттест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кты в большинстве субъектов Р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держат критерии установления квалификационно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тегории, не предусмотренные Порядком аттестаци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например, результаты тестирования, повыш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валификации, собеседования и т. д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станавливают перечни «отчётности» (в т. ч. документов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даваемых педработникам за косвенную плату и (или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 посредничестве третьих лиц, в том числе их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ботодателей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учшие практ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Тюменская область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ведение специалистами департамента образования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юменской области (совместно с межрегионально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рганизацией Общероссийского Профсоюза образования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егулярных выездных встреч с молодыми педагогами (в т. ч. в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ормате индивидуальных консультаций), в ходе которых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ъясняются аттестационные процедур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рганизация Советом молодых педагогов Тюменской обла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ониторинга аттестации молодых педагогов региона в рамках их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держки как наименее социально защищённой категори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дработник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учшие практ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alibri"/>
                <a:ea typeface="Calibri"/>
              </a:rPr>
              <a:t>Удмуртская Республ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  <a:ea typeface="Calibri"/>
              </a:rPr>
              <a:t>	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  <a:ea typeface="Calibri"/>
              </a:rPr>
              <a:t>– </a:t>
            </a:r>
            <a:r>
              <a:rPr b="0" lang="ru-RU" sz="2800" spc="-1" strike="noStrike">
                <a:solidFill>
                  <a:srgbClr val="0d0d0d"/>
                </a:solidFill>
                <a:latin typeface="Calibri"/>
                <a:ea typeface="Calibri"/>
              </a:rPr>
              <a:t>формирование при Министерстве      образования и науки Удмуртской Республики рабочей группы по совершенствованию системы аттестации педработников</a:t>
            </a:r>
            <a:r>
              <a:rPr b="0" i="1" lang="ru-RU" sz="2800" spc="-1" strike="noStrike">
                <a:solidFill>
                  <a:srgbClr val="0d0d0d"/>
                </a:solidFill>
                <a:latin typeface="Calibri"/>
                <a:ea typeface="Calibri"/>
              </a:rPr>
              <a:t> (ноябрь 2015 г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учшие практики в сфере упрощения аттестационных процеду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рмский кра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–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звитие системы электронного документооборота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и аттестации, что является особенно удобным для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едработников, живущих за пределам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егиональной «столицы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месте с тем в субъектах РФ имеются и случа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разумного перехода на электронный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окументооборот, когда заявления о проведени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ттестации не регистрируются без заполнения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электронных анкет и прикрепления к ним файлов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 предусмотренных Порядком аттестаци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ведение НПА субъектов РФ в соответствие с федеральным Порядком аттест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беспечение независимости и объективности оцени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мена взимания прямой и косвенной платы при аттест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прощение аттестационных процедур (в т. ч. отказ от «отчётности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ение соответствия между реальным уровнем квалификации педработника и результатами его аттест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6T10:34:49Z</dcterms:created>
  <dc:creator>Сергоманов Павел Аркадьевич</dc:creator>
  <dc:description/>
  <dc:language>en-US</dc:language>
  <cp:lastModifiedBy>Понкратова</cp:lastModifiedBy>
  <cp:lastPrinted>2015-12-22T07:41:24Z</cp:lastPrinted>
  <dcterms:modified xsi:type="dcterms:W3CDTF">2015-12-29T08:39:13Z</dcterms:modified>
  <cp:revision>52</cp:revision>
  <dc:subject/>
  <dc:title>Модель изменений нормативного правового регулирования стимулирования качества труда педагогов общего образования</dc:title>
</cp:coreProperties>
</file>