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5D23-0AE6-4E96-93BF-00B46EA12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8315-0828-402A-8412-45E7DE1C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CCA6-4EF2-45D6-AD96-F5D0C90B0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1A51-DDFF-484F-9720-2117E2062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DFBC-0815-4C88-93B0-AEEDF7A70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3743-0376-4FAA-B248-A7104570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47FE-3F24-430D-AD92-63E48FEA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2F69E-C304-48CB-A0E1-A44BB447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3D61-9FA6-4557-AF96-F6A2D822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BEA3-8DBF-4B35-88BB-60BAB2F0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C48E-B531-434B-A1B7-76B0B7D5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FD38-3B71-4A06-8120-EEA37B85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5262-D66C-49A5-AABE-F64E7042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F653-F885-46A1-BE5F-44D790D2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A643-D325-4A3A-93B4-187382D1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28EA-AE36-4FE1-A135-ACA097DF7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A7CE-D52F-412D-85C4-9A71C77C1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F7A0B-EFD3-4ABA-B387-BD7EBEDEA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81A11-B7E5-487A-8068-3403611A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F900D-6B49-4CBC-B33A-EEB65F48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EF3F9-4EBE-4D16-B1A4-C5D50EBE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4D300-A002-4D65-8F16-A0A28D3A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F252-F23C-4054-83D0-ABDE8A62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4A711-ABBC-43E1-951E-34EDABAD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D0895-1ACF-4598-9FD7-F3A9D1EE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4C0D0-10DB-4C9D-80AF-86C36CE0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95C76-36E4-43FF-BD4F-C7A0D3E3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93FD1-34D2-47DC-A26D-E250CA18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D3EF1-8CE4-4CCE-B720-4FD6C5639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953DB-A1B0-49BE-8EDE-836FDFA2F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BDFB-B2FF-4F23-8B8C-BD8D8495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F3C8-B6E9-40B2-A7A2-31B9BA55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8C34-D42C-49B3-A809-BC5310FA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5150-8747-432B-BE00-B9DE81DB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1A05-6A09-443F-A70F-D1FDF23B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5199-837E-45F6-A747-12D422E5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8DEC-6F1C-44B6-BED4-AD1E77B2BA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Juliana\Desktop\логотип-01.png"/>
          <p:cNvPicPr/>
          <p:nvPr/>
        </p:nvPicPr>
        <p:blipFill>
          <a:blip r:embed="rId3"/>
          <a:stretch/>
        </p:blipFill>
        <p:spPr>
          <a:xfrm>
            <a:off x="3635280" y="0"/>
            <a:ext cx="1800360" cy="2225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28A8-8822-46F4-BA0A-77B27F4038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Juliana\Desktop\логотип-01.png"/>
          <p:cNvPicPr/>
          <p:nvPr/>
        </p:nvPicPr>
        <p:blipFill>
          <a:blip r:embed="rId3"/>
          <a:stretch/>
        </p:blipFill>
        <p:spPr>
          <a:xfrm>
            <a:off x="-19080" y="152280"/>
            <a:ext cx="1079640" cy="2610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ECE8-5584-461D-B0C6-1D6425EB7E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465280"/>
            <a:ext cx="7772400" cy="25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ттестац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дагогических работников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403280" y="515736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f7f7f"/>
                </a:solidFill>
                <a:latin typeface="Calibri"/>
              </a:rPr>
              <a:t>Оптимизация правопримен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f7f7f"/>
                </a:solidFill>
                <a:latin typeface="Calibri"/>
              </a:rPr>
              <a:t>Порядка аттеста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f7f7f"/>
                </a:solidFill>
                <a:latin typeface="Calibri"/>
              </a:rPr>
              <a:t>в субъектах Российской Федера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22.12.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авовое регулирование аттест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нституция Р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рудовой кодекс Р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едеральный закон от 29 декабря 2012 г. № 273-Ф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«Об образовании в Российской Федерации» (ст. 49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приказ Минобрнауки России от 7 апреля 2014 г. № 27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«Об утверждении Порядка проведения аттестаци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педагогических  работников организаций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осуществляющих образовательную деятельность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отраслевые соглашения, коллективные договор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лномочия Минобрнауки Росс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гласно Закону «Об образовании в РФ»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становление порядка провед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ттестации педработников относится 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лномочиям Минобрнауки Росс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рядок аттестации являетс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домственным нормативным правовы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ктом прямого действ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ъяснения Порядка аттест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целях единообразия правоприменительн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ктики были подготовлены и направлены 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бъекты РФ Разъяснения Департамен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осударственной политики в сфере общег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ования Минобрнауки России 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щероссийского Профсоюза образования п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нению Порядка аттестации от 3 декабря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014 г. № 08-1933/50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кты, принимаемые субъектами Р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счерпывающий перечень актов, принимаемых субъектами РФ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ля проведения аттестации педработников в целях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становления квалификационной категории, включает акт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о формировании аттестационных комисс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о составе аттестационных комисс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о регламенте работы аттестационных комисс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об условиях привлечения специалистов для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осуществления всестороннего анализ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профессиональной деятельности педработник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об установлении (или отказе в установлении)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педработникам первой (высшей) квалификационно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категор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тестация в целях подтверждения соответствия занимаемым должностя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рядком аттестации не предусмотрено какое-либо участие органов исполнительной власти субъектов РФ, осуществляющих государственное управление в сфере образования, в проведении аттестации педработников в целях подтверждения соответствия занимаемым должностя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ормация, необходимая педработни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ри аттестации в целях установления квалификационной категории педработник должен зна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рядок проведения аттестации педагогически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работников организаций, осуществляющи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образовательную деятельность (приказ Минобрнауки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России от 7 апреля 2014 г. № 27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чтовый и электронный адреса аттестационн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мисс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рок и место проведения аттест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порядительный акт об установлении (или отказе 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становлении) квалификационной категор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кументы, предъявляемые для аттестации  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6840" y="1600200"/>
            <a:ext cx="4546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ттестация педработников в целях установления квалификационной категории проводится на основании их заявл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заявлении о проведении аттестации педработники указывают квалификационные категории и должности, по которым они желают пройти аттестац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пункты 27 и 28 Порядка аттестации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alibri"/>
              </a:rPr>
              <a:t>Работник вправе указать при подаче заявления ссылку на Интернет-ресурс, содержащий информацию о нём и результатах его рабо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Рисунок 9" descr=""/>
          <p:cNvPicPr/>
          <p:nvPr/>
        </p:nvPicPr>
        <p:blipFill>
          <a:blip r:embed="rId1"/>
          <a:srcRect l="37500" t="24073" r="37085" b="12224"/>
          <a:stretch/>
        </p:blipFill>
        <p:spPr>
          <a:xfrm>
            <a:off x="5364000" y="1557360"/>
            <a:ext cx="3370320" cy="4751280"/>
          </a:xfrm>
          <a:prstGeom prst="rect">
            <a:avLst/>
          </a:prstGeom>
          <a:ln w="28440">
            <a:solidFill>
              <a:srgbClr val="e46c0a"/>
            </a:solidFill>
            <a:miter/>
          </a:ln>
        </p:spPr>
      </p:pic>
      <p:sp>
        <p:nvSpPr>
          <p:cNvPr id="160" name="Прямоугольник 4"/>
          <p:cNvSpPr/>
          <p:nvPr/>
        </p:nvSpPr>
        <p:spPr>
          <a:xfrm>
            <a:off x="5364000" y="5157720"/>
            <a:ext cx="3370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"/>
              </a:rPr>
              <a:t>Примерный образец заявления педработника о проведении аттестации в целях установления квалификационной катег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6"/>
          <p:cNvSpPr/>
          <p:nvPr/>
        </p:nvSpPr>
        <p:spPr>
          <a:xfrm>
            <a:off x="826920" y="5084640"/>
            <a:ext cx="410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бор информаци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рассмотрении заявл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1599840"/>
            <a:ext cx="84358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При рассмотрении заявлений о проведении аттестации 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целях установления квалификационной категории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аттестационная комиссия осуществляет самостоятельный сбор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необходимой ей информации, например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данных, подтверждающих, что лицо, подавшее заявление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о проведении аттестации, является педработником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    –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документ о месте работы и должности заявителя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    –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лицензия организации, в которой работает заявитель,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на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осуществление образовательной деятельности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сведений об аттестации заявителя, если он проходил её ране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ритерии установлени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валификационных категорий  </a:t>
            </a:r>
            <a:br>
              <a:rPr sz="4000"/>
            </a:br>
            <a:br>
              <a:rPr sz="7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Исчерпывающий перечень критериев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установления первой и высшей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квалификационных категорий содержится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в пунктах 36 и 37 (с учётом пункта 38)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Порядка аттестации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Субъекты РФ не вправе применять при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аттестации иные (в т. ч. дополнительные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или детализирующие) критерии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установления квалификационных категорий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точники информации о педработни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Аттестационная комиссия осуществляет самостоятельн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бор информации о результатах деятельности педработник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 том числе используя следующие источник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фициальные сайты организаций, осуществляющих образовательную деятельность, в сети «Интернет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личные Интернет-ресурсы педработников в сети «Интернет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итоги мониторинга системы 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информационные карты участников конкур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результаты всероссийской олимпиады школьни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нализ примен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алобы педагогических работников и общественных организаций на нарушения Порядка аттестации в субъектах РФ, поступающие в Администрацию Президента РФ и Минобрнауки Росс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ализ актов органов исполнительной власти субъектов РФ, осуществляющих государственное управление в сфере образования, подтвердивший обоснованность жалоб гражд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нализ деятельности педработн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Специалисты, привлекаемые для анализа профессиональной деятельности педработников, должны обосновать соответствие (несоответствие) педработника заявленной категории по результатам качественного, а не количественного анализа результатов его ра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При анализе необходим дифференцированный подход в оценке результатов деятельности педработников с учётом специфики организаций, в которых они работают (например, «слабых» шко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ценка деятельности педработн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ценка профессиональной деятельности педработников в целях установления квалификационной категории осуществляется аттестационной комиссией на основе результатов их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зультаты аттестации в 2015 год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сшая квалификационная категория установлена 6 % педработни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вая квалификационная категория установлена 9,5 % педработни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отношение в среднем по РФ – примерно 2 : 3 (разница в 1,5 раз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Ульяновской области количество педработников, которым был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ановлена высшей категория, в 7,5 больше, чем количеств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дработников, которым была установлена первая категори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Амурской области в 2,5 раза больше, в Ярославской области – в 2 раз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ксимальный разрыв в количественном соотношении педработников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торым были установлены высшая и первая категории (соответственн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 : 4) зафиксирован в Курской, Свердловской и Еврейской автономн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ласт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ализ примен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В 2014–15 гг. в Минобрнауки России поступил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36 обращений граждан из 16 субъектов РФ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(18,8%) с жалобами на различные нарушения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Порядка аттестаци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Проблема нарушения Порядка аттестации в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субъектах РФ была также обозначена в СМ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рядом общественных организаци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(Гильдия словесников, Межрегиональный профсоюз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работников образования «УЧИТЕЛЬ»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нализ НПА субъектов Р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В ноябре–декабре 2015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в Минобрнауки России поступили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распорядительные акты по аттест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педработников из 85 субъектов Р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(100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* в рамках анализа лучших региональ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практик проведения аттест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тоги анализа региональных практик проведения аттест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кты в большинстве субъектов Р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держат критерии установления квалификационно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тегории, не предусмотренные Порядком аттестаци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например, результаты тестирования, повыш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валификации, собеседования и т. д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станавливают перечни «отчётности» (в т. ч. документов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даваемых педработникам за косвенную плату и (или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 посредничестве третьих лиц, в том числе их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ботодателей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учшие практ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Тюменская область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ведение специалистами департамента образования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юменской области (совместно с межрегионально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рганизацией Общероссийского Профсоюза образования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егулярных выездных встреч с молодыми педагогами (в т. ч. в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ормате индивидуальных консультаций), в ходе которых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ъясняются аттестационные процедур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рганизация Советом молодых педагогов Тюменской обла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ониторинга аттестации молодых педагогов региона в рамках их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держки как наименее социально защищённой категори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дработник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учшие практ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alibri"/>
                <a:ea typeface="Calibri"/>
              </a:rPr>
              <a:t>Удмуртская Республ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  <a:ea typeface="Calibri"/>
              </a:rPr>
              <a:t>	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  <a:ea typeface="Calibri"/>
              </a:rPr>
              <a:t>– </a:t>
            </a:r>
            <a:r>
              <a:rPr b="0" lang="ru-RU" sz="2800" spc="-1" strike="noStrike">
                <a:solidFill>
                  <a:srgbClr val="0d0d0d"/>
                </a:solidFill>
                <a:latin typeface="Calibri"/>
                <a:ea typeface="Calibri"/>
              </a:rPr>
              <a:t>формирование при Министерстве      образования и науки Удмуртской Республики рабочей группы по совершенствованию системы аттестации педработников</a:t>
            </a:r>
            <a:r>
              <a:rPr b="0" i="1" lang="ru-RU" sz="2800" spc="-1" strike="noStrike">
                <a:solidFill>
                  <a:srgbClr val="0d0d0d"/>
                </a:solidFill>
                <a:latin typeface="Calibri"/>
                <a:ea typeface="Calibri"/>
              </a:rPr>
              <a:t> (ноябрь 2015 г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учшие практики в сфере упрощения аттестационных процеду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рмский кра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–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звитие системы электронного документооборота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и аттестации, что является особенно удобным для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едработников, живущих за пределам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егиональной «столицы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месте с тем в субъектах РФ имеются и случа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разумного перехода на электронный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окументооборот, когда заявления о проведени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ттестации не регистрируются без заполнения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электронных анкет и прикрепления к ним файлов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 предусмотренных Порядком аттестаци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ведение НПА субъектов РФ в соответствие с федеральным Порядком аттест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беспечение независимости и объективности оцени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мена взимания прямой и косвенной платы при аттест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прощение аттестационных процедур (в т. ч. отказ от «отчётности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ение соответствия между реальным уровнем квалификации педработника и результатами его аттест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6T10:34:49Z</dcterms:created>
  <dc:creator>Сергоманов Павел Аркадьевич</dc:creator>
  <dc:description/>
  <dc:language>en-US</dc:language>
  <cp:lastModifiedBy>Понкратова</cp:lastModifiedBy>
  <cp:lastPrinted>2015-12-22T07:41:24Z</cp:lastPrinted>
  <dcterms:modified xsi:type="dcterms:W3CDTF">2015-12-29T08:39:13Z</dcterms:modified>
  <cp:revision>52</cp:revision>
  <dc:subject/>
  <dc:title>Модель изменений нормативного правового регулирования стимулирования качества труда педагогов общего образования</dc:title>
</cp:coreProperties>
</file>