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08E1-12D9-4EA1-85AF-C84AA1E8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4DA-4366-4E5B-9395-5796B7BB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604-1B61-4C7E-A3F2-BAA27940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73C-16D7-4CF0-9B58-3FB0F074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36A8-7139-4FAC-8D59-39FE5A51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D0FD-C61D-4D71-B03F-BB3A5F69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9BBC-EA61-409A-93EB-C480428B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9900-CEC8-4096-A464-B4381A69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4D24-E02F-474C-A8FD-CB198B51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D64F-4E6C-4B8C-8C6E-429E036B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46DA-16DF-4399-8D5E-60AF5FA3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651-298B-4B5D-94DA-068A480F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2484-9149-43A8-B3EE-A4684EBB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4013-A465-4577-A23C-5ABEE042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E39F-458C-4A35-9142-30B97460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0BB3-1DBF-468D-9674-39180E76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D6F8-F6A9-4F48-9700-9659B8B7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CC5ED-E698-429F-ACC3-A9DF9060E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B9B6B-B915-4482-82CA-B1392147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7394E-CD8D-407E-BACB-FD053278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AFC85-03AF-43C3-8B15-A863392B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4403-FB01-42CE-AE3C-DACF90FA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451-707F-45CF-8BA2-84940824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20B4-2109-4F5A-B886-F1323B0F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996D2-32B2-4A8B-AA4B-0F8568D2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059BF-F8C3-4CAD-BFCB-081518CC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47B7-AE6E-499A-9F48-E2F784FB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B29A6-2E38-4AA3-AAD6-4BA87B30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2EF7-EF2B-49AC-9394-0A752DF8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F85B-EE26-4166-B11E-4F192B7A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057-7898-4B40-A997-D919882E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39F-C6C6-4A0A-8969-76CEE79B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1C0-2824-4BC6-81DE-5AB40BFF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A5A-6632-4CBD-8E75-2DA96A4D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927-464B-4518-9620-EBF34B67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F3E-C1D8-4E9B-B146-DBDD4CBC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64F6-717B-47A6-A385-A24534A86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3635280" y="0"/>
            <a:ext cx="180036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0112-83FC-483E-90F4-69CCCF852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-19080" y="152280"/>
            <a:ext cx="1079640" cy="261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C446-EF91-4DE7-9732-0F9520788C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тестац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дагогических работни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Оптимизация правопримен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Порядка аттест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в субъектах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22.12.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вовое регулирование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удовой кодекс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едеральный закон от 29 декабря 2012 г. № 273-Ф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 (ст. 4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иказ Минобрнауки России от 7 апреля 2014 г. № 2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«Об утверждении Порядка проведения аттест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едагогических  работников организаци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яющих образовательную деятельность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траслевые соглашения, коллективные догово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номочия Минобрнауки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Закону «Об образовании в РФ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ановление порядка прове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тестации педработников относится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номочиям Минобрнауки Росс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ок аттестации явл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омственным нормативным правов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ом прямого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ъяснения Порядка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лях единообразия правоприменитель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ки были подготовлены и направлены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бъекты РФ Разъяснения Департа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ой политики в сфере обще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я Минобрнауки России 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российского Профсоюза образования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ению Порядка аттестации от 3 декабря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14 г. № 08-1933/5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ы, принимаемые субъектам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черпывающий перечень актов, принимаемых субъектами РФ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проведения аттестации педработников в целя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овления квалификационной категории, включает ак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формировании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составе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регламенте работы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ловиях привлечения специалистов дл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ения всестороннего анали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рофессиональной деятельности 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тановлении (или отказе в установлении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едработникам первой (высшей)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категор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тестация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ком аттестации не предусмотрено какое-либо участие органов исполнительной власти субъектов РФ, осуществляющих государственное управление в сфере образования, в проведении аттестации педработников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я, необходимая педработн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 аттестации в целях установления квалификационной категории педработник должен зн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ядок проведения аттестации педагогическ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рганизаций, осуществляющ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разовательную деятельность (приказ Минобрнаук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оссии от 7 апреля 2014 г. № 27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чтовый и электронный адреса аттестацион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ок и место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порядительный акт об установлении (или отказ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ановлении)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ументы, предъявляемые для аттестации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4546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тестация педработников в целях установления квалификационной категории проводится на основании их зая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аявлении о проведении аттестации педработники указывают квалификационные категории и должности, по которым они желают пройти аттест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пункты 27 и 28 Порядка аттес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Работник вправе указать при подаче заявления ссылку на Интернет-ресурс, содержащий информацию о нём и результатах его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9" descr=""/>
          <p:cNvPicPr/>
          <p:nvPr/>
        </p:nvPicPr>
        <p:blipFill>
          <a:blip r:embed="rId1"/>
          <a:srcRect l="37500" t="24073" r="37085" b="12224"/>
          <a:stretch/>
        </p:blipFill>
        <p:spPr>
          <a:xfrm>
            <a:off x="5364000" y="1557360"/>
            <a:ext cx="3370320" cy="475128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sp>
        <p:nvSpPr>
          <p:cNvPr id="160" name="Прямоугольник 4"/>
          <p:cNvSpPr/>
          <p:nvPr/>
        </p:nvSpPr>
        <p:spPr>
          <a:xfrm>
            <a:off x="5364000" y="515772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Примерный образец заявления педработника о проведении аттестации в целях установления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6"/>
          <p:cNvSpPr/>
          <p:nvPr/>
        </p:nvSpPr>
        <p:spPr>
          <a:xfrm>
            <a:off x="826920" y="5084640"/>
            <a:ext cx="41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информ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ассмотрении зая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и рассмотрении заявлений о проведении аттестации 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целях установления квалификационной категор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ттестационная комиссия осуществляет самостоятельный сбор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еобходимой ей информации, например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анных, подтверждающих, что лицо, подавшее заявление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 проведении аттестации, является педработником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окумент о месте работы и должности заявител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лицензия организации, в которой работает заявитель,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уществление образовательной деятель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ведений об аттестации заявителя, если он проходил её ране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итерии установл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валификационных категорий  </a:t>
            </a:r>
            <a:br>
              <a:rPr sz="4000"/>
            </a:br>
            <a:br>
              <a:rPr sz="7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счерпывающий перечень критериев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первой и высшей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валификационных категорий содержится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пунктах 36 и 37 (с учётом пункта 38)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рядка аттестац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убъекты РФ не вправе применять пр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ттестации иные (в т. ч. дополнительные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ли детализирующие) критери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квалификационных категори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 о педработ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ттестационная комиссия осуществляет самостоя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бор информации о результатах деятельности педработни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том числе используя следующие источ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фициальные сайты организаций, осуществляющих образовательную деятельность,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чные Интернет-ресурсы педработников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тоги мониторинга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нформационные карты участников кон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зультаты всероссийской олимпиады школь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алобы педагогических работников и общественных организаций на нарушения Порядка аттестации в субъектах РФ, поступающие в Администрацию Президента РФ и Минобрнауки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актов органов исполнительной власти субъектов РФ, осуществляющих государственное управление в сфере образования, подтвердивший обоснованность жалоб граж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лиз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пециалисты, привлекаемые для анализа профессиональной деятельности педработников, должны обосновать соответствие (несоответствие) педработника заявленной категории по результатам качественного, а не количественного анализа результатов его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 анализе необходим дифференцированный подход в оценке результатов деятельности педработников с учётом специфики организаций, в которых они работают (например, «слабых» шк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ка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ценка профессиональной деятельности педработников в целях установления квалификационной категории осуществляется аттестационной комиссией на основе результатов их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ультаты аттестации в 2015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шая квалификационная категория установлена 6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ая квалификационная категория установлена 9,5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в среднем по РФ – примерно 2 : 3 (разница в 1,5 р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Ульяновской области количество педработников, которым бы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а высшей категория, в 7,5 больше, чем количе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работников, которым была установлена первая категор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Амурской области в 2,5 раза больше, в Ярославской области – в 2 раз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ый разрыв в количественном соотношении педработник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м были установлены высшая и первая категории (соответствен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: 4) зафиксирован в Курской, Свердловской и Еврейской автоном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В 2014–15 гг. в Минобрнауки России поступи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36 обращений граждан из 16 субъектов РФ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18,8%) с жалобами на различные нарушен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орядка аттестаци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облема нарушения Порядка аттестации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убъектах РФ была также обозначена в С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ядом общественных организ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Гильдия словесников, Межрегиональный профсою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бразования «УЧИТЕЛЬ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НПА субъектов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ноябре–декабре 201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Минобрнауки России поступили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распорядительные акты по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педработников из 85 субъектов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(10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в рамках анализа лучших региона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актик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и анализа региональных практик проведения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ы в большинстве субъектов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 критерии установления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и, не предусмотренные Порядком аттестац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апример, результаты тестирования, повы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алификации, собеседования и т. 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авливают перечни «отчётности» (в т. ч. документ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аваемых педработникам за косвенную плату и (ил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посредничестве третьих лиц, в том числе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одателе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юменская обла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специалистами департамента образовани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юменской области (совместно с межрегиональ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ей Общероссийского Профсоюза образования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ярных выездных встреч с молодыми педагогами (в т. ч. 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ате индивидуальных консультаций), в ходе которы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ъясняются аттестационные процед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я Советом молодых педагогов Тюмен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ниторинга аттестации молодых педагогов региона в рамках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ки как наименее социально защищённой категор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Удмуртская Республ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	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формирование при Министерстве      образования и науки Удмуртской Республики рабочей группы по совершенствованию системы аттестации педработников</a:t>
            </a:r>
            <a:r>
              <a:rPr b="0" i="1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 (ноябрь 2015 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ие практики в сфере упрощения аттестационных процеду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тие системы электронного документооборот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аттестации, что является особенно удобным дл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дработников, живущих за предела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ой «столи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месте с тем в субъектах РФ имеются и случа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разумного перехода на электронный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кументооборот, когда заявления о проведени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ттестации не регистрируются без заполн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лектронных анкет и прикрепления к ним файлов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предусмотренных Порядком аттест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дение НПА субъектов РФ в соответствие с федеральным Порядком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еспечение независимости и объективности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взимания прямой и косвенной платы при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ощение аттестационных процедур (в т. ч. отказ от «отчётности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оответствия между реальным уровнем квалификации педработника и результатами его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34:49Z</dcterms:created>
  <dc:creator>Сергоманов Павел Аркадьевич</dc:creator>
  <dc:description/>
  <dc:language>en-US</dc:language>
  <cp:lastModifiedBy>Понкратова</cp:lastModifiedBy>
  <cp:lastPrinted>2015-12-22T07:41:24Z</cp:lastPrinted>
  <dcterms:modified xsi:type="dcterms:W3CDTF">2015-12-29T08:39:13Z</dcterms:modified>
  <cp:revision>52</cp:revision>
  <dc:subject/>
  <dc:title>Модель изменений нормативного правового регулирования стимулирования качества труда педагогов общего образования</dc:title>
</cp:coreProperties>
</file>